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B41-4992-4831-9EEB-47D0AA0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AAC-36D7-4AC3-AF6E-EB38460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E0C-2BB9-45FD-B4E1-3D9EAAA0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F9B-041D-4F3B-A084-0EAB8F26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A67-C940-4505-BE3D-B1476D9E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675-9061-42AF-8B29-454D1F0E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E8B-E41B-4980-8C3F-2C98C7E2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E8A-173F-4FCD-A124-3CAC414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5C7-8A3B-41B0-B0C7-D09CC65A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B9F-C568-4D8E-B3DE-0F4355B1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F01-F2BD-4ADC-B36B-F778BC41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B18-1AF5-48DB-BCC1-F097692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E4A-3E84-4CEF-B6B5-165F91A4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Calibri"/>
              </a:rPr>
              <a:t>L</a:t>
            </a:r>
            <a:r>
              <a:rPr b="1" lang="en-US" sz="7200" spc="-1" strike="noStrike">
                <a:solidFill>
                  <a:srgbClr val="ff66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ffcc00"/>
                </a:solidFill>
                <a:latin typeface="Calibri"/>
              </a:rPr>
              <a:t>s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33cc33"/>
                </a:solidFill>
                <a:latin typeface="Calibri"/>
              </a:rPr>
              <a:t>C</a:t>
            </a:r>
            <a:r>
              <a:rPr b="1" lang="en-US" sz="7200" spc="-1" strike="noStrike">
                <a:solidFill>
                  <a:srgbClr val="33ccff"/>
                </a:solidFill>
                <a:latin typeface="Calibri"/>
              </a:rPr>
              <a:t>o</a:t>
            </a:r>
            <a:r>
              <a:rPr b="1" lang="en-US" sz="7200" spc="-1" strike="noStrike">
                <a:solidFill>
                  <a:srgbClr val="3333cc"/>
                </a:solidFill>
                <a:latin typeface="Calibri"/>
              </a:rPr>
              <a:t>m</a:t>
            </a:r>
            <a:r>
              <a:rPr b="1" lang="en-US" sz="7200" spc="-1" strike="noStrike">
                <a:solidFill>
                  <a:srgbClr val="cc66ff"/>
                </a:solidFill>
                <a:latin typeface="Calibri"/>
              </a:rPr>
              <a:t>i</a:t>
            </a:r>
            <a:r>
              <a:rPr b="1" lang="en-US" sz="7200" spc="-1" strike="noStrike">
                <a:solidFill>
                  <a:srgbClr val="6600cc"/>
                </a:solidFill>
                <a:latin typeface="Calibri"/>
              </a:rPr>
              <a:t>d</a:t>
            </a:r>
            <a:r>
              <a:rPr b="1" lang="en-US" sz="7200" spc="-1" strike="noStrike">
                <a:solidFill>
                  <a:srgbClr val="ff00ff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ff99ff"/>
                </a:solidFill>
                <a:latin typeface="Calibri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mbria"/>
              </a:rPr>
              <a:t>By: Saria Hande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200400" cy="214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2743200" cy="212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14600" y="5029200"/>
            <a:ext cx="137160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1447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lbertus MT"/>
              </a:rPr>
              <a:t>Para el desayuno me gusta comer los hue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956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lbertus MT"/>
              </a:rPr>
              <a:t>Para el desayuno me gusta beber el zumo de nar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867280" y="4952880"/>
            <a:ext cx="2895840" cy="16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3505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lbertus MT"/>
              </a:rPr>
              <a:t>Para el desayuno me gusta comer las crep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95288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lbertus MT"/>
              </a:rPr>
              <a:t>Para el desayuno me gusta comer el toc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andara"/>
              </a:rPr>
              <a:t>El Al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666880" cy="175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2724120" cy="22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165708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276720" y="14479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Bodoni"/>
              </a:rPr>
              <a:t>Para el alumerzo me gusta comer las papas 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67080" y="3200400"/>
            <a:ext cx="212904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43434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Bodoni"/>
              </a:rPr>
              <a:t>Para el almuerzo me gusta beber la Coca-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Bodoni"/>
              </a:rPr>
              <a:t>Para el almuerzo me gusta comer el bocad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562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Bodoni"/>
              </a:rPr>
              <a:t>Para el almuerzo me gusta beber la batido de fru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590920" cy="2414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581280" cy="2376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66680" y="4495680"/>
            <a:ext cx="1866960" cy="2048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124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alibri"/>
              </a:rPr>
              <a:t>Para la cena me gusta comer el bift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Para la cena me gusta comer el espague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648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alibri"/>
              </a:rPr>
              <a:t>Para la cena me gusta beber l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stellar"/>
              </a:rPr>
              <a:t>El Po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895480" cy="320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212076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29000" y="3581280"/>
            <a:ext cx="2624040" cy="307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672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Para el postre me gusta comer la to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6386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Bradley Hand ITC"/>
              </a:rPr>
              <a:t>Para el postre me gusta beber el batido de le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3434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radley Hand ITC"/>
              </a:rPr>
              <a:t>Para el postre me gusta comer el he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2:27Z</dcterms:created>
  <dc:creator>handelmansar</dc:creator>
  <dc:description/>
  <dc:language>en-US</dc:language>
  <cp:lastModifiedBy>handelmansar</cp:lastModifiedBy>
  <dcterms:modified xsi:type="dcterms:W3CDTF">2012-04-05T17:12:24Z</dcterms:modified>
  <cp:revision>6</cp:revision>
  <dc:subject/>
  <dc:title>Las Comidas</dc:title>
</cp:coreProperties>
</file>